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565-6F10-4B4A-909B-D8293192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D0E-5677-4FD3-A358-28C79E90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B5C-F490-466E-83F2-5960F340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D5A3-8332-471D-A072-5ED6709C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B09-CF30-48C2-A6E7-BE490043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118-C978-4FDD-B92D-FFEBC9A1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FE9-2171-406C-A002-D3433785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ED3-C17C-4EEE-BFAD-79EABA4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AC8-3DCC-4575-BD91-EAA1C565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A53-2F04-4372-804F-053D9FF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185-2734-4843-9042-969E1E23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61C-38A1-472F-89E6-1425B5CF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8BD1-ECCE-4BD8-88E0-074599136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3214800"/>
            <a:ext cx="77724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лога клиничког фармаце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мпоненте презентације случја пацијента; Планирање фармакотерапије –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“SOAP”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ubjective, Objective, Assesment and Plan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ступ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аветовање клиничара у вези са лековима које прописуј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моћ око израде одељенског формулара –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57200" y="578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f.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ог због којег пацијент/корисник д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е тегоб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 зависности од система детаљна анамнез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речи пацијента/корисника у опису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дентификацио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е и прези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, датум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и религ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чно стање (тренутно и претход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дреса и телефонски бро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сто рођ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ДЕНТИФИКАЦИОНЕ ПОДАТКЕ УСКЛАДИТИ СА ПОДАЦИМА У ПАЦИЈЕНТОВОМ ЕЛЕКТРОНСКОМ КАРТОН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авне тего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ог због којег се пацијент обраћа лекару/фармацеуту (убележити “пацијентовим речником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но да садрж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х година стар/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 (колико дуго тра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новно обо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одаци о садашњем обољењ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четак (датум, модалитет: нагло, постеп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а и ток симп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ципитирајући уз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честалост и те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енут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рактер (или квалит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 информације ( у зависности који је систем захваћ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а дијагноза, лекови, ОТЦ препарати, физикална или балнеоклиматолошка терапија, алтернативни облици ле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лежане болести у детињству (конгениталне, значајне комплика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и у старијем узрасту (дијагноза, терапија, компликације,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ови (генеречки, трговачке марке, дозе, режим узим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спитализ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тивни захв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ума/повреде (велике повреде, фракту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сфузије крви или дерив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3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ранија обољ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т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е 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унизација (режим, последња за тетану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вике (пушење, алкохол, злоупотреба лекова или психоактивних супстан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утов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 болести </a:t>
            </a:r>
            <a:br>
              <a:rPr sz="44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обстретичко – гинек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392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периоди (х х 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у којем је се јавила менар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 – карактеристике (фреквенца, уредност јављања, трајање, одли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дњи менструални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и живот (активан, дату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авида, парагравида, прекид трудноће (спонтано, оперативно), мртворођена деца, живорођена деца, начин 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ацепција (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паниколау размаз (последњи, резулта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пауза (појава симпто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одичн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најближе чланове породиц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раст  (узраст или узрок смр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дравстве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тати з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гна обољења, дијабетес, артеријску хипертензију, срчана обољења, гојазност, поремећаје коагулације и крварења, артритис, обољења бубрега, ендокрина обољења, обољења јет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onsanquinity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генитална обољења, алергије, инфективна обољења (туберкулоза), ментал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цијално-епидемиолошки по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ивотни ст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утритивне и хигијенске нав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изичка активност и спо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ван, 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ични лекови”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treet dru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нимање (претходна, садаш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јна служ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ости (хоби, рели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чан дан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тисфакције, фруст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ште пој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етит (глад) (анорексија, хипорексија, хиперорексија, полифагија, хип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ђ (полидипсија, хиподи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рхтавица (укоче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 (дијафоре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наг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ор (малаксалост, умо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укупно стање (нелагод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357880" y="714240"/>
            <a:ext cx="3079800" cy="11430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Quod nocet, saepe doc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д (тренутно, диплопија, замагњен вид, скотоми, оштећен вид, носи наочаре сочи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(да ли је контролисан очни притис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рет (црвенило, су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тофоб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фталмија (“суво око”, 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гзофталму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лфакторна функција (аносмија, дизосмија, хипо- и хиперосмија, паросмија и какосм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стакса (локални, системски узро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инореја (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струкција, конгестија, перфо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усне шупљине (бол, пост назално пражњ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сна шупљ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 (гинги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матолош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осоди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с (слано, слатко, горко, кисел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серостом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ребање у гр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 говор (дисфон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ардиоваскул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грудима (ангинозни, при напору, независно од нап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итације (везано за бол или диспнеј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еја (при напору, пароксизмална ноћу, ортопнеја, трепопнеја, платипн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деми (симетрични или не, подколенице, руке лиц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марање при напо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ерије: клаудикације, хипотермија, цијаноза, бледило, алергије, трофизми, сензације, улцерације, 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е: варикозне вене, хипертермија, оток и бол у екстремите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8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еспирато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шаљ (анатомско порекло, сув или са спутумом, акутан или хроничан, образац-диурналне варијације, интезитет и фрекве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утум (количина, боја, задах, вискозност, пурулен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опти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пн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heez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еурални бол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уцање и хрк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1432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алит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тикација (жвака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у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фагија (фарингеална или езофагеална; прогресивна или интермитетна; течности или чврсте матер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ерофагија и подриг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укс, регург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руш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орек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раћање (количина, боја, задах, садржај: крв, мукус, жуч, храна (несварена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емеза (свежа к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емеза (таман , кафени садржај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бух (осећај пуности, дистензија, оток, б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пигастричн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ежано 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сови и надут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атул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олица (констипација, опстипација, дија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атохезија (свежа крв у стол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л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9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троинтестин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фекација (болна, напрезање, тенез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ус (бол, печење, свраб, сфинктер-инконтиненц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цес (количина, боја, задах, конзистенција, профил, крв, мукус, маст, храна-несваре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ицистокинетска интолера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у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олурија (таман ур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холија (бела стол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уритус (свра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oblem-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riented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dical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етод евидентирање података о здравственом стању пацијента у системu решавања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ува податке у лако приступач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м формату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начин који подстиче сталну процену и ревизију плана здравствене заштите од стране свих чланова тима здравствене зашти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слабинама (радијација, повезана са микциј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зурија (болно уринирање, учесталост, хитност, колебљив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нтитет (полиурија, олигурија, анур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 (ноктурија, опсиурија, енуре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 (калкулуси, седимент, хематурија, хемоглобинурија, протеинурија, холурија), густина, осмоларит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ја, задах, волумен дан:ноћ = 4:1; 2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ција, м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у беш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и проста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2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муш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енис : лезије, улцерације, секреција, ерекција, пријапи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ретрални сек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иси: бол, волумен, крипторх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ум: бол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: либидо, потенција, сношај, ејакулација, орга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др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енитоуринарни – женске генитал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5720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струални цик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сменореја (опсоменореја, проиоменореја, хиперменореја, хипоменореја, полименореја, олиго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норагија (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рорагија (не-менструално крварењ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гинални секрет (леукореја, ксантореја, хидроре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, свраб, пе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суалне функције (либидо, фригидност, оргазам, сношај (диспареунија) вагин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менопауза, менопауз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јке; брадав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73196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симетрија и 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и улце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адавиц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тра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оре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лесна м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ди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лифа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розо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адилал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толерантност топло/хлад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немир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пера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е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е сексуалне карактерис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инекомас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ојазност (гинекоидна, андроид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врућине, црве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 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емато-имуноло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71400"/>
            <a:ext cx="822960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еди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ке (амилофагија, пагофагија, геофаг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дрице (лако и спонта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варење: спонтано (мукозе=гингива), после мањих траума, хемарт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мфни чворови оток и/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фекције (рекурент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Raynaud’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шти, кардиоваскуларни и неуролошки симптоми у хематолошким обољењ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ишићно-скеле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ши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а снага (слабост); миалгија; дисфункција; грч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ртралгија, артритис (оток, осетљивост, црвенило, топлота, дисфункција (јутарња укоченост), бол у леђима или вра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ок или б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копа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зиторни дефи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тоглав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трнулост и конфу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уси будност/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торне функције (тремор, абнормални покрети, парали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внотежа и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ећај (дисестезије, пара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снорук или левор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трола сфинк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нтални поремећа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св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доживљавања сопствене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паж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памћ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елиг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интелектуалног функционис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фо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мишљења по садрж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Емоције и а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нт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валитативни поремећаји афектив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гони (мот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оремећаји воље и вољних радњ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0012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ја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з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(бол, свраб, паресте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мптоматологија у склопу: акутних поремећаја – главобоља, температура, грозница, слабост или; хроничних – анорексија, губитак тежине, малаксалост, 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озне масе: у кожи, под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ладежи (проме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са (дистрибуција, текстура); но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ов акроним, заш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става и уч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глашен систематски и аналитички при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маже да се прихвате алгорит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ављање (уч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грише – проблеме и узро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кусира на пацијента и његове/њене пробл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на знања студ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уникација међу члановима медицинског тима</a:t>
            </a:r>
            <a:br>
              <a:rPr sz="800"/>
            </a:br>
            <a:br>
              <a:rPr sz="8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бољшава квалитет здравствене заштите и минимизира могућност грешк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дско-медицински документ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sign &amp; dat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даци по системима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л - карактери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428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ракте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соматски (туп); висцерални (оштар); колике; стезање; интезиван; жарење; грчев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постепено, изнен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и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ез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рајање и фреквен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(сталан, повреме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везан с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знојењем, хипервентилацијом, тахикардијом, анксиозношћу, наузејом, повраћањем, дијарејом, жутицом, холуријом, ахолијом, дизуријом, крварењ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лијативни и провокативни фактор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респирације, дефекација, гутање, положај, у мировању, при покрету, храна, стрес, емо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ње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а се може уоч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нтификовати: шта се може видети, избројати, осетити (мирис), чути или мер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исана докумен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теза субјективних и објективних података у радну дијагнозу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-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исује параметре терап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циони план: укључује предвиђене интервенције, дозе и дозни режим лекова, упутства за пацијента, предвиђену следећу контро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гноза: предвиђа добробит и делотворност примењен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реба да 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атак и конц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тате свести на миним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ити прецизне и дескриптивне терм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мах по прегледу унети подат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ек унети податке о датуму и часу када је преглед започ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олико пишете, нека то буде читко и граматички правил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писати доку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OAP</a:t>
            </a:r>
            <a:br>
              <a:rPr sz="44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збећ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ношење имена других пацијента и чланова пород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мина попут, вероватно, изгледа да 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 употребљавајте терминологију која Вам је непоз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егавајте непотребне опи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Израде одељенског формулара – </a:t>
            </a:r>
            <a:r>
              <a:rPr b="1" i="1" lang="sr-Latn-CS" sz="3600" spc="-1" strike="noStrike">
                <a:solidFill>
                  <a:srgbClr val="000000"/>
                </a:solidFill>
                <a:latin typeface="Calibri"/>
              </a:rPr>
              <a:t>Pharmacist’s Car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упљање инфо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овање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ој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на ис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Четири елемента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OM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за подата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datab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ста “тегоба”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problem l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четни п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(initial pl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OAP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а ли се дијагноза може поставити лак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уобичај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презентација неуобичајенe болести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олест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ли не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ично нисте видели, ил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 сада дијагностиков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 почиње са анамнезом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Непозн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AP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(19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00160" y="2143080"/>
            <a:ext cx="66866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O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asse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 – </a:t>
            </a:r>
            <a:r>
              <a:rPr b="1" i="1" lang="sr-Latn-CS" sz="32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лтернативни мо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DA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ata, Assesment and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IE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Individual Emotional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unctional Outcomes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ативни приступ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9-08T05:09:58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